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6.wmf" ContentType="image/x-wmf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12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4.wmf" ContentType="image/x-wmf"/>
  <Override PartName="/ppt/media/image7.wmf" ContentType="image/x-wmf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5C7DF-894B-4E56-A1EB-728F2DF10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54495-5316-4D4E-BF3D-078F09C1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F32C6-961E-4F1D-A55E-3592F5A3C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DD433-BBD4-4216-A80A-03773C492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FE5C0-81A8-4D73-A6F9-E5DCF84AB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DF59-A577-49A5-906A-F7FC3104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7347-D906-4048-9521-5BDD1FCA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1EC4-15C0-4214-AA43-91B8F0DE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E820-9217-4B33-A728-B80BF245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A06E-12AC-46D4-8EF4-91738BDC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0CAF-D53C-4B76-B4FD-C8677856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FECAE-780D-4D2C-B7B1-F40B3A30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4275-42B5-489B-8B23-C90AA82A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11CD-094B-497C-B818-AEC22D71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EBE5-8A18-4ED5-80C1-90778388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0601-EFD1-43A0-ACFF-80DABF87E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0354-A8C2-4880-8F83-5B223D0C6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25A3F-7D4A-4B6D-9890-F2564429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A9D5A-4800-4688-BAC2-149DEA7B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7D43A-250C-4C0F-987A-2C517845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AED62-2134-439C-8FDA-3B29A16F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13339-01A4-4A9C-B61C-5797A3C0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7AA9E-17CD-4856-9659-06A61310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C6AA1-671E-4C4C-8F4F-D39517B8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AA5E-2C63-4EE4-9903-92BFE09154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4B78-7F3F-4E36-89DE-DCD5A88D65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hapter 6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sson 4: Balancing School, Sports, and Home Lif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1820880" cy="1820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934320" y="4724280"/>
            <a:ext cx="182088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kills for Balancing Your Lif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you feel that you need to work on balancing your life, try talking with family members, teachers, or friends. Sometimes someone else can see a solution that you might never conside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you want to play several sports, choose sports with seasons that don’t overlap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liminate one sport, but continue others. Consider staying with a sport that you might enjoy for a lifetim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ok for a different team or league – one that might require less energy and tim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lay only one season each year in a sport. For example, play soccer in the fall but not in the spring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alance the sports you play by using cross-training techniques. Select those that complement one another in terms of fitness benefits and skill developmen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os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1. Explain. How can the decision-making process help you make choices about balancing your lif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2. Vocabulary. What is overcommitmen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3. List. Identify 4 warning signs of overcommitm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4. Distinguish. What is the difference between dedication to excellence in a sport and overcommitmen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467480" y="5051520"/>
            <a:ext cx="13338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BELL ACTIV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Draw a simple chart that shows the relative time and energy you feel you put into each of the three aspects of your life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Garamond"/>
              </a:rPr>
              <a:t>Schoo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Garamond"/>
              </a:rPr>
              <a:t>Spor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Garamond"/>
              </a:rPr>
              <a:t>Home lif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791320" y="4114800"/>
            <a:ext cx="213516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eciding What Matters to You p. 166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orts may be a large part of your life right now. Winning a game and being part of a team can make you feel great. However, you are also a student and a family member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metimes you may find it difficult to balance sports activities with your other interests and responsibilit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505320" y="4572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lancing… p. 166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Balancing your roles does not necessarily mean giving them equal importa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though each is significant, one area or another may take a leading role at a particular point in your lif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’s always a good idea to be aware of how your commitment to sports is affecting your schoolwork and family lif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 rot="20750400">
            <a:off x="456840" y="0"/>
            <a:ext cx="150336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d you know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orts have been a part of human life for a very long time. In fact, the oldest sport in the world may be bowling. A bowling ball made of stone was found, along with bowling pins, in the tomb of an Egyptian mummy. The tomb was built about 7,000 years ag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7200" y="4648320"/>
            <a:ext cx="1820880" cy="1820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2666880" y="4648320"/>
            <a:ext cx="2667240" cy="1784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5791320" y="4648320"/>
            <a:ext cx="257940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368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Using the Decision Making Process p. 167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gure 6.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te the situ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st the op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igh the possible outcom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ider your valu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ke a decision and a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valuate the deci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791320" y="1523880"/>
            <a:ext cx="2209680" cy="1476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257800" y="4572000"/>
            <a:ext cx="228600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arning Signs p. 167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e of the purposes of the decision-making process is to help you guard against overcommitm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Overcommitment is obligating yourself to more people or projects than you have time or energy to follow through 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n cause you to feel tired and irritab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 may also feel guilty if you believe you are letting others dow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943600" y="5500800"/>
            <a:ext cx="12636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rnou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vercommitment can lead to burnou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Burnout – a sense of exhaustion caused by exerting too much energy for too long a tim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n be physical, mental, or emotion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3520" y="41911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352680" y="4419720"/>
            <a:ext cx="1870200" cy="16794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791320" y="4495680"/>
            <a:ext cx="289080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igure 6.8 Warning Signs of Overcommitment p. 168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 miss homework assignments or do poorly on tests because of sports practices or gam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 neglect household chores or miss family activities and gathering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 lose touch with friends who are not on your tea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 experience fatigue or frequent injuries caused by carelessness or by overuse of muscl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 no longer enjoy the sport or lose interest in it completel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2:54:03Z</dcterms:created>
  <dc:creator>GSCS</dc:creator>
  <dc:description/>
  <dc:language>en-US</dc:language>
  <cp:lastModifiedBy>GSCS</cp:lastModifiedBy>
  <dcterms:modified xsi:type="dcterms:W3CDTF">2010-11-10T13:26:18Z</dcterms:modified>
  <cp:revision>4</cp:revision>
  <dc:subject/>
  <dc:title>Chapter 6</dc:title>
</cp:coreProperties>
</file>